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40C-5CB8-4227-BE82-160F3F58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DFC-6E44-44AE-A9F6-1971B36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A4D-23B6-49BF-99A9-CF6519AD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F77-D5C8-421F-B988-4C1405C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239A-48D1-4811-A95D-4938A6AD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6C6-888B-4E05-956F-F0EF4699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4E8-6C17-47AC-91A9-40A674E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D8F-B63C-4F7B-9BA6-5DD736C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5C1-BE23-4F93-B054-403634EB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C26-21D5-46F2-806F-3DA187E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6F51-6BAA-426E-9B8F-BE49FC5E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AFF-5A1B-433B-B509-F063C5D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59DE-C4EB-4E13-B8DC-03984A5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9BE2-CDC9-4686-A8ED-F8CA87F4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5F16-3E77-4A60-ADEB-970BDA9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A42-4DAC-4191-959E-DB71224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C87F-9350-4D06-AD25-DF7F8F5D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2B676-80A5-4727-9078-0EC1052C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17BD-6751-4E63-A6FC-A9379676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DBED8-F991-4220-91D8-9CF2FFE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19C58-F402-4792-8A32-AB1EE3E7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52896-9FC2-4779-BD51-8FAF57C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A30-7BE7-4B31-9683-C19789B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B10F6-BCCD-4853-88F4-D2FA6CC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9EB23-2B03-4E58-BB98-67F5F41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39154-BB44-4732-9A14-37132D4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99A16-F06D-473A-839A-E34E551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7F0C7-3824-4AF4-878E-8F76BE9B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762B0-318D-43F4-A167-604AB469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BFE46-E7F0-40DA-A547-BF357FFF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5808D-16C0-42B9-97BF-C4CEA8E0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5411D-439B-48D2-9517-6840371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D64CF-1CBD-45AB-9E77-40312E1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CFB-F9AF-4C3F-B392-955E7730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FD245-B59F-4FFC-9E75-4B9887F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903CC-F59D-4688-BF9A-F680243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825DE-C3D5-465B-89A2-A6D7CE0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C191A-64E0-4F3E-8EF8-6D178B3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9AD82-CCD7-4774-9A6F-8980074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B2B87-4635-4A41-A7DB-2325583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EB71A-99D8-4AC5-9106-C9D4F1F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79767-1ED2-4321-9709-1D59F9CD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8D5C3-B41D-4ACF-AF11-4CB4280A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787AA-1B4F-414F-BF29-18B1C7D0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DD6-B46A-4BB0-A7FB-4E83028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267D8-E2E9-46C5-A852-DA345FC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1D2B3-BB67-4EEA-96C4-7E82EC9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5CA4F-02F8-45B4-B432-37CE105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224B4-C578-4412-8D5B-28ECF86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191BB-CABA-4820-B51F-86FA6E02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72E0D-5C1B-4D65-8894-985B9FB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7467D-9F85-440E-BEC7-1B76E12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66159-B1D0-4253-B4AB-EBD8437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78DC9-03BF-48EE-8F90-3CAF3CF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37AAC-5B5D-43AE-B415-A5E1B6CD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FEE-6743-4ACE-BEAA-AEE626F9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B99B6-800D-48BF-B9C4-F1B9508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02AB1-2E50-4F0A-9CFE-613DD886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ADCCD-8BA6-4305-A677-52F0ADF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E2D91-3167-431F-969E-2913FCA5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6BE95-4816-4D61-9D02-98159A0D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D2D7A-E93D-477A-B206-603DCAE3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173A8-BFF6-4E4F-9861-765681F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2B8AF-5021-45D5-BF9A-7E613AE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51A9E-FA8E-4ECD-A79B-55A98D6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53DAB-5C43-42C4-85EB-AA54BA3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27D-1352-479A-8BFF-734945A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DFDB1-45FE-4F07-A8BF-4388286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C4A16-0809-454D-9A50-62DAF3FD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0016A-7925-48B7-BC98-EAB35D19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7D49-73CB-43D2-B489-8249C7C6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4106-140B-4AE1-A13E-81DA8EDC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A2C0-8C8D-4551-A0BA-B578341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19B1-A7E4-4E31-B7EB-FF0CD93F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8F87-1E4C-4F8B-86D7-2E36774B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8CAD-A765-4658-B458-9F647031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F552-786C-41AC-8645-ADAF627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9A7-9BDB-4DFB-97FC-E3ED9B3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B985-FB2A-4E8D-AAB8-494F580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203B-1A54-47CA-9567-DBC178A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9E4D-C3FF-4BF9-A42B-05C23F9D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ECDB-D092-4477-AAF6-B6C1E723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808A-F7B9-4652-85D6-5A6CC86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156-EBAF-4076-8746-4D606F6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86C-F489-44CA-9527-59E6ABF5372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9" descr="1.tif"/>
          <p:cNvPicPr/>
          <p:nvPr/>
        </p:nvPicPr>
        <p:blipFill>
          <a:blip r:embed="rId2"/>
          <a:srcRect l="4910" t="0" r="57713" b="8468"/>
          <a:stretch/>
        </p:blipFill>
        <p:spPr>
          <a:xfrm>
            <a:off x="34920" y="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19"/>
          <p:cNvSpPr/>
          <p:nvPr/>
        </p:nvSpPr>
        <p:spPr>
          <a:xfrm>
            <a:off x="3348000" y="0"/>
            <a:ext cx="0" cy="158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1276200" y="115920"/>
            <a:ext cx="1849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130-65C6-4835-BA74-582F1D0A29C2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6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610-24B0-494B-9214-08AE331069A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4CA-1DBB-43BB-A202-461E8DDBC3F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2EE-B800-46DA-8D3B-22EE641EC02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5A1-D4C2-471E-BD1D-62B96B5F68B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5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6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285-AB12-4814-935B-6DA22B20853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odle.kipk.ru/course/view.php?id=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ОМС ФГО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2361960" y="2133360"/>
            <a:ext cx="647676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бинар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рядок обсуждения примерной образовательной программы 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Optim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слеживается ли в программе реализация деятельностного подхода, если да то в чем, если нет, приведите аргумен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слеживается ли в программе реализация возрастного подхода: есть ли возрастная динамика, в чем ее можно обнаружи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отличаются предметные программы, от ныне существующи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58816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Optima Cyr"/>
              </a:rPr>
              <a:t>ОБРАЗОВАТЕЛЬНАЯ ПРОГРАММА</a:t>
            </a: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Optima Cyr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Optima Cyr"/>
              </a:rPr>
              <a:t>КОМПЛЕКС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Optima Cyr"/>
              </a:rPr>
              <a:t>ОСНОВНЫХ ХАРАКТЕРИСТИК ОБРАЗ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ОБЪЕМ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СОДЕРЖАНИЕ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ПЛАНИРУЕМЫЕ РЕЗУЛЬТАТЫ</a:t>
            </a:r>
            <a:r>
              <a:rPr b="1" lang="ru-RU" sz="2000" spc="-1" strike="noStrike">
                <a:solidFill>
                  <a:srgbClr val="002060"/>
                </a:solidFill>
                <a:latin typeface="Optima Cyr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ОРГАНИЗАЦИОННО-ПЕДАГОГИЧЕСКИХ УСЛОВИЙ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ФОРМ АТТЕСТАЦИИ</a:t>
            </a:r>
            <a:r>
              <a:rPr b="1" lang="ru-RU" sz="2000" spc="-1" strike="noStrike">
                <a:solidFill>
                  <a:srgbClr val="002060"/>
                </a:solidFill>
                <a:latin typeface="Optima Cyr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Optima Cyr"/>
              </a:rPr>
              <a:t>КОТОРЫЙ ПРЕДСТАВЛЕН В ВИД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УЧЕБНОГО ПЛАНА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КАЛЕНДАРНОГО УЧЕБНОГО ГРАФИКА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РАБОЧИХ ПРОГРАММ УЧЕБНЫХ ПРЕДМЕТОВ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КУРСОВ, ДИСЦИПЛИН (МОДУЛЕЙ), </a:t>
            </a:r>
            <a:r>
              <a:rPr b="0" lang="ru-RU" sz="2000" spc="-1" strike="noStrike">
                <a:solidFill>
                  <a:srgbClr val="002060"/>
                </a:solidFill>
                <a:latin typeface="Optima Cyr"/>
              </a:rPr>
              <a:t>ИНЫХ КОМПОНЕНТОВ, А ТАКЖЕ </a:t>
            </a:r>
            <a:r>
              <a:rPr b="1" lang="ru-RU" sz="2000" spc="-1" strike="noStrike">
                <a:solidFill>
                  <a:srgbClr val="ff0000"/>
                </a:solidFill>
                <a:latin typeface="Optima Cyr"/>
              </a:rPr>
              <a:t>ОЦЕНОЧНЫХ И МЕТОДИЧЕСКИХ МАТЕРИАЛОВ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95640" y="602100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6" name="Содержимое 2"/>
          <p:cNvSpPr/>
          <p:nvPr/>
        </p:nvSpPr>
        <p:spPr>
          <a:xfrm flipH="1">
            <a:off x="9325080" y="2852640"/>
            <a:ext cx="287280" cy="2808360"/>
          </a:xfrm>
          <a:prstGeom prst="rect">
            <a:avLst/>
          </a:prstGeom>
          <a:solidFill>
            <a:srgbClr val="fdf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ормативный доку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пределяющ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яд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ения и преподавания ебного мета, курса, основывающийся на федеральном государственном образовательном станда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3492360" y="351000"/>
            <a:ext cx="5273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3708360" y="189000"/>
            <a:ext cx="489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 2 ФЗ «Об образовании в РФ» № 273-ФЗ от 29 декабря 2012 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19640" y="44280"/>
            <a:ext cx="4551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З «Об образовании в РФ» от 29.12.2012 № 273-ФЗ</a:t>
            </a:r>
            <a:endParaRPr b="0" lang="en-US" sz="24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766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4b6d2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бразовательная организация принима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окальные нормативные акты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одержащие нормы, регулирующие образовательные отношения (далее - локальные нормативные акты), в пределах своей компетенции в соответствии с законодательством Российской Федерации в порядке, установленном 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таво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b6d2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4b6d2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личие</a:t>
            </a:r>
            <a:r>
              <a:rPr b="0" lang="ru-RU" sz="2400" spc="-1" strike="noStrike">
                <a:solidFill>
                  <a:srgbClr val="94b6d2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утвержденных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локальных нормативных актов по основным вопросам организации и осуществления образовательной деятель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ответствующих</a:t>
            </a:r>
            <a:r>
              <a:rPr b="0" lang="ru-RU" sz="2400" spc="-1" strike="noStrike">
                <a:solidFill>
                  <a:srgbClr val="94b6d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законодательству и устав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3928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ормативная,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яется документом, обязательным для выполнения в полном объем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еполагани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ет ценности и цели, ради достижения которых она введена в ту или иную образовательную обла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ормирующа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ет содержание образования, фиксирует состав элементов содержания, подлежащих усвоению учащими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цессуальна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ет логическую последовательность усвоения элементов содержания, организационные формы и методы, средства и условия обуч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ценочна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яет уровни усвоения элементов содержания, объекты контроля и критерии оценки уровня обученности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2843280" y="26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06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ООО образовательной организации</a:t>
            </a:r>
            <a:endParaRPr b="0" lang="en-US" sz="36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2720" y="1916280"/>
            <a:ext cx="8153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1 сентября 2015 года – полная готовность ОП ООО во всех образовательных организаци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ая программа разрабатываются  и утверждается образовательным учреждением самостоятельно  с учетом примерной образовательной программы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06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ресурс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2720" y="1916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e95e40"/>
                </a:solidFill>
                <a:latin typeface="Times New Roman"/>
              </a:rPr>
              <a:t>ФГОС О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//минобрнауки. рф/документы/54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5e40"/>
                </a:solidFill>
                <a:latin typeface="Times New Roman"/>
              </a:rPr>
              <a:t>Обсуждение ПОП О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u.crowdexpert.ru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dle.kipk.ru/cou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Дистанционное обучение Красноярья/  Введение ФГОС/Актуальные вопросы введения ФГО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imes New Roman"/>
                <a:hlinkClick r:id="rId1"/>
              </a:rPr>
              <a:t>http://moodle.kipk.ru/course/view.php?id=4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06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в НПБ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2720" y="1915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об образовании в РФ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ко-культурный стандар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ция естественно-математического образов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ция дополнительного образов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 ГТ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Optima Cyr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Optima Cyr"/>
              </a:rPr>
              <a:t>Порядок обсуждения ПОП ООО </a:t>
            </a:r>
            <a:endParaRPr b="0" lang="en-US" sz="36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250920" y="1916280"/>
            <a:ext cx="86421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Министерства образования и науки Красноярского края  № 75-11401 от 17.09.2014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лан действий по обсуждению П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656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егистрация на сайте проекта по общественным консульта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656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знакомление педагогических работников с текстом ПОП О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656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ведение МО, семинаров, вебинаров по обсуждению П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656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формление и выставление материалов на сайт проекта на основе предложений, высказанных в ходе обсуждения ПОП О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6656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6337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Optima Cyr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Optima Cyr"/>
              </a:rPr>
              <a:t>при обсуждении программы обратить внимание !!!</a:t>
            </a:r>
            <a:endParaRPr b="0" lang="en-US" sz="31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Оценить реалистичность реализации заявленных результатов, условий и содержания учебного матери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Соответствие материально-технических условий описанных в программе и существующие условия   в ваших школах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Система оценки достижения планируемых результатов освоения основной образовательной программы основного общего образов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Выделить перечень необходимых изменений и оценить реалистичность реал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ьева Наталья Петровна</dc:creator>
  <dc:description/>
  <dc:language>en-US</dc:language>
  <cp:lastModifiedBy>Новичкова Евгения Валериевна</cp:lastModifiedBy>
  <dcterms:modified xsi:type="dcterms:W3CDTF">2014-09-18T03:24:08Z</dcterms:modified>
  <cp:revision>566</cp:revision>
  <dc:subject/>
  <dc:title>Слайд 1</dc:title>
</cp:coreProperties>
</file>